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50D-638E-4B10-819A-981D2397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C02-E882-4430-A10D-AD71E8C6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3EC-159D-45FD-81AF-F9711FE0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229-E27C-48EF-AFA8-6CAF64C8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50AEE-511E-48F0-8C80-CB549190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856BE-F56D-4EC0-A12F-21B532CC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85724-CF99-48AA-BC93-02D2D0E5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707B6-AF61-46F3-8AD7-8ECCBE5B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E8152-1280-494B-A638-873F1F36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1B389-85DF-4428-9BD2-C92A138A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FD743-34F4-4605-955C-B465AC6E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42E-8D57-47AE-91CA-C3CDF1FD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EABB0-EBD4-4268-BF57-76C0A275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7BB9F-DC19-4A5D-8616-69E3497F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1540B-4391-42CD-9CCE-41D9C000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9D2CC-456E-460D-84D0-AEB48877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BCCA0-BE7B-438E-9425-B49721A8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AD6-33EC-4CFF-9DD1-F23AEA1D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6B5-D2A1-444F-8B79-13171B14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FC9-6776-4238-A5E6-8F668F57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471-B2E5-4B12-B061-117B6F67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DAA-6A26-4E5A-A7F3-93592E9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1E8-A60C-48FF-989F-05366C46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65A-AA12-4ACE-801A-4D0A7E00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CF52-4DAB-4EEE-B214-2E906DACF6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7990-D911-448D-9AAE-58EABED496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TROLU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(Adaptat după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Manualul de Chimie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clasa a X-a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Rodica Constantinescu, Maria-Luiza Popescu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ţiei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 un amestec 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complex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comp_i"/>
          <p:cNvPicPr/>
          <p:nvPr/>
        </p:nvPicPr>
        <p:blipFill>
          <a:blip r:embed="rId2">
            <a:grayscl/>
          </a:blip>
          <a:srcRect l="27997" t="0" r="0" b="0"/>
          <a:stretch/>
        </p:blipFill>
        <p:spPr>
          <a:xfrm>
            <a:off x="6113520" y="1676520"/>
            <a:ext cx="143964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 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te insolubil în apă, formând cu aceasta o emuls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Ştiaţi c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Metanul este principalul constituent al gazelor natura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2</cp:lastModifiedBy>
  <dcterms:modified xsi:type="dcterms:W3CDTF">2012-06-19T10:57:1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